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6AC-2696-488B-A6FD-4DC3E830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0BE-C45C-42B9-95F1-FE8D28F3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12F-A9F3-41FC-815A-0D2C14F1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F57-57EA-4626-9B07-8065EFCB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C6CD-DDCE-411F-9FA0-5F8C7415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5C81-D095-4CA8-B868-FD94EDB3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4290-FDC1-46B2-90C6-404ACC8C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AA6C-A750-4CC8-B197-EFE0A0A3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8A21-24AF-48F3-9D37-42E7060F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22C4-3EB3-4B21-B79A-17E2F93D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79B3-FB4F-4EBE-93C3-9EB22DF9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7B3-82AA-4996-B582-2CDEBAA7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C63C-A10D-425A-8A6A-1CF9DBF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DC5F-3A94-4325-ADB8-1A73038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0A87-FE0E-4EA1-BBD3-1CD2B67A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5E5F-C815-42AA-8D7B-D1BF26D1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F243-D1DD-4A67-BE84-B4DFE83C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5F7-4C47-48D1-852D-F63B07E6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CA9-D9A3-49C6-8B2E-E0F06C7C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613-002A-4951-A9C3-CDE63012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0CD-A7E9-4FF3-9B16-A90954E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4BE-E709-4708-8A6A-89AFCD9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E2E-0638-431D-9061-5D619B2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FCF-E3C3-4804-8752-25D998C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5CC8-9CF4-472B-8E41-D2F0517FD7F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AD67-CB2E-4FBA-BEC1-3013A7A467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So, if there are 4 people in one family 50 families eat 60000g(60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ctangle prism which has 0.2mfor width, 0.3m for length, 1mfor height which coast $34.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milies need 60000g for two weeks to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gram is 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㎤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han 60000g is 60000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㎤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hich means 0.06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rom the calculation we tried we found that larger height makes more cheap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 of the volume of rectangular prism is width x length x height= 0.2x0.3x1=0.06(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ast of the base volume is 1.2x1.3x0.02=0.0312(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x640=$19.9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ast of the surface area is (0.2x0.3)+2(0.2x1)+2(0.3x1)=1.06(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x14=$14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otal coast=$34.8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r (35 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ilet (8 liters) do they hav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ng (.5 l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 (3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Preferred Customer</cp:lastModifiedBy>
  <dcterms:modified xsi:type="dcterms:W3CDTF">2008-11-30T23:45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